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осударственное делопроизвод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 1960 – 2000-е г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806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88 г. руководство Главархива СССР утвердило вторую редакцию ЕГСД, названную Единая государственная система документационного обеспечения управления (ЕГСДОУ). С этого времени понятие "делопроизводство" обозначается и термином "документационное обеспечение управления" (ДОУ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91 г. ЕГСДОУ была преобразована в государственную систему документационного обеспечения управления (ГСДОУ). Положения ЕГСДОУ распространялись на все системы документации, включая документы, создаваемые средствами вычислительной техники и микрограф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8520"/>
            <a:ext cx="822960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ЕГСДО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документ, развивающий, уточняющий и дополняющий Основные положения ЕГСД в связи с изменениями, которые претерпело делопроизводство к этому периоду времени. На основе ЕГСДОУ был подготовлен новый нормативный документ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"Государственная система документационного обеспечения управления. Основные положения. Общие требования к документам и службам документационного обеспечения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который одобрен коллегией Главархива СССР 27.04.88 и утвержден приказом Главархива СССР от 25.05.88 № 33. До настоящего времени он остается основным нормативным документом по организации делопроизводства в нашей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сновные правилах работы ведомственных архивов», утвержденные приказом Главархива СССР от 05.09.85 № 263 установили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требования для систематизации документов в текущем делопроизводств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и критерии ценности документов, организация экспертизы ценности документов и порядок ее прове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а подготовки и передачи дел на хранение в арх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«Типовая инструкция по делопроизводству в министерствах и ведомствах Российской Федерации» от  05.08.93 № 321.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а регистрации докумен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ия поисковых систем для справочной рабо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я контроля исполнения докумен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ядок составления и работы с номенклатурой де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я де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ления опис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ивного хранения дел и передачи их на архивное хран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блемы совершенствования делопроизводства в 1950-1980-х гг. Их законодательная и нормативная регламентац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ЕГСД, цели, принципы документообо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первые государственные стандарты на организационно-распорядительную документацию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етское делопроизводство 1980-2000-х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ова А.Н. Пути воздействия государства на работу с документами в негосударственной сфере экономики // Делопроизводство. 2002.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E12A-8820-471B-B343-5F1F9FA1AAA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1555-5725-455D-AC51-111CAD70DD8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216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800280"/>
            <a:ext cx="822960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абрь 1959 г. - Постановление Правительства СССР «О механизации труда инженерно-технических работников административно-управленческого аппарат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юнь1960 г. в Москве было созвано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сесоюзное совещани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о вопросам механизации труда инженерно-технических работников и работников административно-управленческого аппара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960/1961 учебном году - подготовка специалистов по организации делопроизводства в Московском государственном историко-архивном институте (МГИА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основе постановления Совета Министров РСФСР 08.05.1964 Об увеличении выпуска средств механизации делопроизводства и улучшении подготовки кадров по делопроизводству» в МГИАИ был открыт первый в СССР факультет государственного делопроизводства (ФГД), готовящий специалистов для работы по документационному обеспечению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м Совета Министров РСФСР от 30.09.1961 "О мерах по улучшению делопроизводства в учреждениях и организациях РСФСР" была утверждена Примерная инструкция о делопроизводстве для учреждений и организаций РСФСР. Она явилась основой для разработки учреждениями РФ своих инструкций по делопроизводств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же постановление обязало Министерство просвещения РСФСР ввести в ряде средних школ с 1962/ 1963 учебного года подготовку учащихся по специальности "Делопроизводство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лавное архивное управление при Совете Министров СССР в 1963 г. утвердило "Основные правила постановки документальной части делопроизводства и работы архивов учреждений, организаций, предприятий СССР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зработка Единой государственной системы делопроизводства (ЕГСД) началась после выхода постановления Совета Министров СССР от 25.07.1963 "О мерах по улучшению архивного дела в СССР". Постановление подчеркнуло связь делопроизводства и архива. </a:t>
            </a:r>
            <a:br>
              <a:rPr sz="18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953800"/>
            <a:ext cx="82296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основных разделов ЕГСД поручалась Главному архивному управлению, в рамках которого в 1966 г. был создан ВНИИДА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ИДАД разрабатывал Единую государственную систему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дготовке проекта ЕГСД приняли участие: НИИ труда, ВНИИ оргтехники, Институт государства и права Академии наук СССР, ВНИИ стандарт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сентябрь 1973 г.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- Единая государственная система делопроизводства (ЕГСД) - одобрена Государственным комитетом Совмина СССР по науке и технике и рекомендованная министерствам и ведомствам для использования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СД -представлял собой научно-методический, упорядоченный комплекс правил, нормативов и рекомендаций по ведению делопроизводства в учреждениях, организациях, предприятиях СССР, начиная с момента поступления или создания документов до передачи их в архив. В ЕГСД также излагались требования к службам делопроизводства в учреждениях и их порядок рабо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ЕГСД — усовершенствовать на единой основе организацию делопроизводства путем внедрени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единых форм и метод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аботы с документ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ЕГСД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навливала правила документирования управленческой деятельности (которые распространялись только на организационно-распорядительные документы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ржала рекомендации по организации работы с документа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ла основы организации труда делопроизводственного персонала и механизации делопроизводственных процес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инципы организации документооборота по ЕГСД 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ость движения документов, его целенаправленное регулирование и оптимальное осуществ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единообразия в порядке прохождения и технологии обработки основных категорий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инстанций прохождения и действий с документами, не обусловленных деловой необходим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ервые стандарты на организационно-распорядительную документацию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СТ 6.38-72 "Система ОРД. Основные положения"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СТ 6.39-72 "Система ОРД. Формуляр - образец"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65412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16487-70 "Делопроизводство и архивное дело. Термины и определения". (переработан в 1983 г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10.1-75 "Унифицированные системы документации. Основные положения" (переработан в 1988 г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10.4-84 "Унифицированные системы документации. Придание юридической силы документам на машинном носителе и машинограмме, создаваемым средствами вычислительной техники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38-90 "Унифицированная система документации. Система организационно-распорядительной документации. Требования к оформлению документов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Характеризуя  период советского делопроизводства, следует отметить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960-е гг. прослеживается стремление придать делопроизводству общегосударственный характер ''путем разработки единых правил и норм в работе с документами, подготовки специалистов в области делопроизводства, оптимизации делопроизводственных процессов через внедрение средств мех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970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ы - качественный перелом. Основа для развития современного делопроизвод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0T09:08:35Z</dcterms:modified>
  <cp:revision>137</cp:revision>
  <dc:subject/>
  <dc:title>Lecture Template </dc:title>
</cp:coreProperties>
</file>